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AA0-4016-4922-A898-E98ABDC7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74C-D4A9-4E89-ACE7-D72661F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270-A3DB-41F9-AE70-82B28B6E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B2A-058D-4100-9C34-65EAB95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CCB-A7DF-4CB3-8FC8-BF895C1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2E7-C63C-413E-BDCA-DF0EEE0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802-69F0-47D1-A1EE-E9D9898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04D-6494-4247-AC30-2D713193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23E-B539-4D88-BCAE-C97472C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8C3-FEFE-4C46-AE4C-E8DFEB1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FEF-23AC-45D3-A944-0EC13D3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B2F-EE71-4FBA-89FC-DD5BA6E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A741-14B2-48F5-AA54-18468AFD4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94360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Ya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kcs user\Local Settings\Temporary Internet Files\Content.IE5\IVVQ5A2W\MCj0195578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31813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114800" y="1905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type of ox with long hai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37160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saw a yak grazing in the gra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962520" y="5335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im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990720" y="2971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usic from a set of bell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kcs user\Local Settings\Temporary Internet Files\Content.IE5\2QUQ72KL\MCEN00040_0000[1].wmf"/>
          <p:cNvPicPr/>
          <p:nvPr/>
        </p:nvPicPr>
        <p:blipFill>
          <a:blip r:embed="rId1"/>
          <a:stretch/>
        </p:blipFill>
        <p:spPr>
          <a:xfrm>
            <a:off x="609480" y="533520"/>
            <a:ext cx="1905120" cy="1995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990720" y="4419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 wind chimes hanging on the neighbors por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495680" y="533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ke-u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219320" y="3733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pstick, powder, or other materials that change one’s appear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143000" y="5181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watched my mom put on make-up in the mo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kcs user\Local Settings\Temporary Internet Files\Content.IE5\BPTMCVYZ\MCj01499940000[1].wmf"/>
          <p:cNvPicPr/>
          <p:nvPr/>
        </p:nvPicPr>
        <p:blipFill>
          <a:blip r:embed="rId1"/>
          <a:stretch/>
        </p:blipFill>
        <p:spPr>
          <a:xfrm>
            <a:off x="0" y="304920"/>
            <a:ext cx="32004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572000" y="533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z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523880" y="22860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viding warmth and comfor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295280" y="3733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feels so cozy laying in bed on a cold nigh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304920" y="457200"/>
            <a:ext cx="18288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038480" y="457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ajam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kcs user\Local Settings\Temporary Internet Files\Content.IE5\RWAYEZP7\MCj0361632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3124080" y="1981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othes people wear to slee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14400" y="4038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ald listened put on her pajamas and listened to her bedtime st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57200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bb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600200" y="3352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lked with a li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447920" y="4724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lderly man hobbled as he walk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kcs user\Local Settings\Temporary Internet Files\Content.IE5\HFUIXQC2\MCj0404213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98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200400" y="6094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rammed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00200" y="3657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ffed or packed tight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523880" y="4876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gon crammed food into his c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kcs user\Local Settings\Temporary Internet Files\Content.IE5\H6GMZ4FW\MCj02977610000[1].wmf"/>
          <p:cNvPicPr/>
          <p:nvPr/>
        </p:nvPicPr>
        <p:blipFill>
          <a:blip r:embed="rId1"/>
          <a:stretch/>
        </p:blipFill>
        <p:spPr>
          <a:xfrm>
            <a:off x="304920" y="457200"/>
            <a:ext cx="2928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9880" y="457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w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kcs user\Local Settings\Temporary Internet Files\Content.IE5\1QBZPOJ9\MCj02979410000[1].wmf"/>
          <p:cNvPicPr/>
          <p:nvPr/>
        </p:nvPicPr>
        <p:blipFill>
          <a:blip r:embed="rId1"/>
          <a:stretch/>
        </p:blipFill>
        <p:spPr>
          <a:xfrm>
            <a:off x="685800" y="457200"/>
            <a:ext cx="121932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971800" y="2209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wo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335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y mom said, “Don’t make me tell you twic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809880" y="6858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m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752480" y="2514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isy excite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523880" y="403848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was a lot of commotion in the class when Fisher brought in his turt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kcs user\Local Settings\Temporary Internet Files\Content.IE5\IVVQ5A2W\MCj0198458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143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657600" y="3808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elive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3581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anded over to some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981080" y="51814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florist delivered flow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kcs user\Local Settings\Temporary Internet Files\Content.IE5\2QUQ72KL\MCj0237322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24382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kcs user\Local Settings\Temporary Internet Files\Content.IE5\RWAYEZP7\MCHH00856_0000[1].wmf"/>
          <p:cNvPicPr/>
          <p:nvPr/>
        </p:nvPicPr>
        <p:blipFill>
          <a:blip r:embed="rId1"/>
          <a:stretch/>
        </p:blipFill>
        <p:spPr>
          <a:xfrm>
            <a:off x="380880" y="5335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80988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eath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438280" y="22860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oft, flat parts of the outer covering of bi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676520" y="4191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found a feather on the grou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962520" y="304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leas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kcs user\Local Settings\Temporary Internet Files\Content.IE5\AT2BMQ76\MCj0403887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429000" y="1905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t fr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23880" y="3733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bird was released from the ca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638680" y="4572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i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438280" y="2362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lose strength and energ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85800" y="3962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tire easily when I haven’t had any foo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kcs user\Local Settings\Temporary Internet Files\Content.IE5\1QBZPOJ9\MCj02825880000[1].wmf"/>
          <p:cNvPicPr/>
          <p:nvPr/>
        </p:nvPicPr>
        <p:blipFill>
          <a:blip r:embed="rId1"/>
          <a:stretch/>
        </p:blipFill>
        <p:spPr>
          <a:xfrm>
            <a:off x="380880" y="457200"/>
            <a:ext cx="234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343400" y="533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ear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28800" y="3200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aving something on the bod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600200" y="44956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ople wear a cap when they gradu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kcs user\Local Settings\Temporary Internet Files\Content.IE5\SZ6733UR\MCj02386890000[1].wmf"/>
          <p:cNvPicPr/>
          <p:nvPr/>
        </p:nvPicPr>
        <p:blipFill>
          <a:blip r:embed="rId1"/>
          <a:stretch/>
        </p:blipFill>
        <p:spPr>
          <a:xfrm>
            <a:off x="533520" y="609480"/>
            <a:ext cx="329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952880" y="60948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rri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23880" y="33526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type of small do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914400" y="4724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rrier would not quit bar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kcs user\Local Settings\Temporary Internet Files\Content.IE5\H6GMZ4FW\MCj0424562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143000" y="24382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ctures made of the inside of your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066680" y="4495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sher had his arm x-rayed when he fell off of the trampol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kcs user\Local Settings\Temporary Internet Files\Content.IE5\12T97BD1\MCj0227346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8:58:35Z</dcterms:created>
  <dc:creator>kcs user</dc:creator>
  <dc:description/>
  <dc:language>en-US</dc:language>
  <cp:lastModifiedBy>kcs user</cp:lastModifiedBy>
  <dcterms:modified xsi:type="dcterms:W3CDTF">2008-09-17T21:29:49Z</dcterms:modified>
  <cp:revision>16</cp:revision>
  <dc:subject/>
  <dc:title>Slide 1</dc:title>
</cp:coreProperties>
</file>